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5633640" y="-360"/>
            <a:ext cx="4311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32587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6515280"/>
            <a:ext cx="43099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5633640" y="6515280"/>
            <a:ext cx="4311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60BB-9107-419A-B7AF-AA8B386403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5634000" y="6515280"/>
            <a:ext cx="4311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666A-1EBC-4217-8F88-B112CFDA83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5634000" y="6515280"/>
            <a:ext cx="4311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5644-929B-4C2A-94B8-52CE1CB871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5634000" y="6515280"/>
            <a:ext cx="4311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2978-30FA-414F-8032-4BE6AAF07B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5634000" y="6515280"/>
            <a:ext cx="4311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A98D-80A9-472F-A84D-CD118A98D0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5634000" y="6515280"/>
            <a:ext cx="4311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0AD6-66A3-4FBF-AE67-CCA35F9E5C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5634000" y="6515280"/>
            <a:ext cx="4311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5CC5-4D88-406C-80F1-24CEC21B41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5634000" y="6515280"/>
            <a:ext cx="4311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C706-201E-4E10-96F2-E976A34C4C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5634000" y="6515280"/>
            <a:ext cx="4311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C18C-767F-451E-ABB7-B76A5200E0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5634000" y="6515280"/>
            <a:ext cx="4311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6305-EFD7-4822-B47A-3F099E02C5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5634000" y="6515280"/>
            <a:ext cx="4311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F203-7972-4949-A36E-BDB66A29A1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5634000" y="6515280"/>
            <a:ext cx="4311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CDF0-9DFA-4579-9EED-0D10468F45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5634000" y="6515280"/>
            <a:ext cx="4311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3B5E-F7C7-4B49-97B7-2491C1AB37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5634000" y="6515280"/>
            <a:ext cx="4311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F683-28EB-4A88-A29F-A29E70D694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5634000" y="6515280"/>
            <a:ext cx="4311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AA79-B8FB-461E-A182-969DCDCB3E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5634000" y="6515280"/>
            <a:ext cx="4311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D91F-21A2-44FE-9320-53208A171F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1E30-D8F7-4DE8-8F49-97E7569D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C35E-F111-4F5D-BAC2-83DC6443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FC7D-C80B-4ABD-A166-68229DEF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CDDD-828D-4A23-8CA8-11DA7CE1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9932-B3C4-48A5-8399-1E42BD67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0D96-F642-4984-94DE-8A91F3D7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AA22-83E7-4610-A99D-0FA03C81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C292-DB9B-4E2B-A7A6-ED0DBF0F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7840-A9D9-488D-AE5E-FDC88D0B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587D-1A1C-47DE-AEDF-EE199D73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44ED-C91B-4EFD-B468-F989A7CC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B57F-5751-462B-B9CC-455C6F8A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3C5E-3CB6-4FD6-B6F2-DBF4E700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24F8-C7CC-4DA6-B046-123316A8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001A-4D52-4CEC-BC88-0147D422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7D85-0B82-49B5-A492-46CE635C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42A4-393E-44BB-AB68-4E7D53D1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BC4C-913D-439D-B55A-E039765C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07CC-E9DD-4B6E-A30F-05397345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3514-7F1C-4E4D-8B57-1FF1ECDA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243-1624-4BA5-B391-D18A314D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0BD7-27A5-4933-B746-144BDA21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3DC-BEC1-4241-93A8-86B01EAE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0E2B-32A3-489C-9A11-D6B64EEB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7EEE-93FA-4899-A561-D35A5E5EC5E7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A4C4-E022-4012-ADC9-91524433CF2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4C79-CED2-48C4-8D9D-E3FB2B256904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5231-2F1A-4129-BA3F-97DA9E82DB2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25650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 итогах проведения социологического исследовани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Взаимодействие некоммерческих организаций и населения: региональный аспект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8101080" y="6237360"/>
            <a:ext cx="6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Диаграмма 2" descr=""/>
          <p:cNvPicPr/>
          <p:nvPr/>
        </p:nvPicPr>
        <p:blipFill>
          <a:blip r:embed="rId1"/>
          <a:stretch/>
        </p:blipFill>
        <p:spPr>
          <a:xfrm>
            <a:off x="236520" y="1841400"/>
            <a:ext cx="8526600" cy="46832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3"/>
          <p:cNvSpPr/>
          <p:nvPr/>
        </p:nvSpPr>
        <p:spPr>
          <a:xfrm>
            <a:off x="179280" y="26028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иболее актуальные направления деятельности некоммерческих организаций, проценты, процент отве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Номер слайда 11"/>
          <p:cNvSpPr/>
          <p:nvPr/>
        </p:nvSpPr>
        <p:spPr>
          <a:xfrm>
            <a:off x="7020000" y="630864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855F-8FB5-4251-BBCC-0BE8C004B09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2"/>
          <p:cNvSpPr/>
          <p:nvPr/>
        </p:nvSpPr>
        <p:spPr>
          <a:xfrm>
            <a:off x="179280" y="260280"/>
            <a:ext cx="885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прос «Чем могут некоммерческие организации и инициативы в наибольшей степени помочь улучшению ситуации в области образования, культуры, здравоохранения, науки?», проце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24000" y="1844640"/>
          <a:ext cx="8569080" cy="4389480"/>
        </p:xfrm>
        <a:graphic>
          <a:graphicData uri="http://schemas.openxmlformats.org/drawingml/2006/table">
            <a:tbl>
              <a:tblPr/>
              <a:tblGrid>
                <a:gridCol w="3384360"/>
                <a:gridCol w="1373400"/>
                <a:gridCol w="1269720"/>
                <a:gridCol w="1271520"/>
                <a:gridCol w="1270080"/>
              </a:tblGrid>
              <a:tr h="822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рианты отв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4320">
                      <a:solidFill>
                        <a:srgbClr val="c9d0d8"/>
                      </a:solidFill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solidFill>
                      <a:srgbClr val="ced5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бласти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solidFill>
                      <a:srgbClr val="ced5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бласти культ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solidFill>
                      <a:srgbClr val="ced5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бласти здравоохра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solidFill>
                      <a:srgbClr val="ced5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бласти нау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c9d0d8"/>
                      </a:solidFill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solidFill>
                      <a:srgbClr val="ced5dd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тивно работать, оказывать услуги населению, организац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4320">
                      <a:solidFill>
                        <a:srgbClr val="c9d0d8"/>
                      </a:solidFill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9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0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c9d0d8"/>
                      </a:solidFill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ировать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ре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4320">
                      <a:solidFill>
                        <a:srgbClr val="c9d0d8"/>
                      </a:solidFill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,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6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c9d0d8"/>
                      </a:solidFill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формировать население о качестве работы учре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4320">
                      <a:solidFill>
                        <a:srgbClr val="c9d0d8"/>
                      </a:solidFill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,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,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,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7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c9d0d8"/>
                      </a:solidFill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влечь добровольные денежные пожертв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4320">
                      <a:solidFill>
                        <a:srgbClr val="c9d0d8"/>
                      </a:solidFill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c9d0d8"/>
                      </a:solidFill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влечь добровольный безвозмездный тру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4320">
                      <a:solidFill>
                        <a:srgbClr val="c9d0d8"/>
                      </a:solidFill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c9d0d8"/>
                      </a:solidFill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руг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4320">
                      <a:solidFill>
                        <a:srgbClr val="c9d0d8"/>
                      </a:solidFill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c9d0d8"/>
                      </a:solidFill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ич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4320">
                      <a:solidFill>
                        <a:srgbClr val="c9d0d8"/>
                      </a:solidFill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,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c9d0d8"/>
                      </a:solidFill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трудняюсь отве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4320">
                      <a:solidFill>
                        <a:srgbClr val="c9d0d8"/>
                      </a:solidFill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c9d0d8"/>
                      </a:solidFill>
                    </a:lnR>
                    <a:lnT w="4320">
                      <a:solidFill>
                        <a:srgbClr val="c9d0d8"/>
                      </a:solidFill>
                    </a:lnT>
                    <a:lnB w="4320">
                      <a:solidFill>
                        <a:srgbClr val="c9d0d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Номер слайда 11"/>
          <p:cNvSpPr/>
          <p:nvPr/>
        </p:nvSpPr>
        <p:spPr>
          <a:xfrm>
            <a:off x="7020000" y="630864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F751-7B22-46D9-8C52-D5CF25AE97D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1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D840-B807-48E3-A36C-340C4F0DA28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272880" y="18900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прос «Как некоммерческие организации могут улучшить ситуацию в области социального обслуживания граждан (инвалидов, одиноких пенсионеров и т.д.)?», проце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Диаграмма 3" descr=""/>
          <p:cNvPicPr/>
          <p:nvPr/>
        </p:nvPicPr>
        <p:blipFill>
          <a:blip r:embed="rId1"/>
          <a:stretch/>
        </p:blipFill>
        <p:spPr>
          <a:xfrm>
            <a:off x="417600" y="1865160"/>
            <a:ext cx="83818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"/>
          <p:cNvSpPr/>
          <p:nvPr/>
        </p:nvSpPr>
        <p:spPr>
          <a:xfrm>
            <a:off x="582480" y="260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 уровня доверия населения некоммерческим организациям, проц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Объект 1" descr=""/>
          <p:cNvPicPr/>
          <p:nvPr/>
        </p:nvPicPr>
        <p:blipFill>
          <a:blip r:embed="rId1"/>
          <a:stretch/>
        </p:blipFill>
        <p:spPr>
          <a:xfrm>
            <a:off x="582480" y="1989000"/>
            <a:ext cx="8123400" cy="3984840"/>
          </a:xfrm>
          <a:prstGeom prst="rect">
            <a:avLst/>
          </a:prstGeom>
          <a:ln w="0">
            <a:noFill/>
          </a:ln>
        </p:spPr>
      </p:pic>
      <p:sp>
        <p:nvSpPr>
          <p:cNvPr id="135" name="Номер слайда 11"/>
          <p:cNvSpPr/>
          <p:nvPr/>
        </p:nvSpPr>
        <p:spPr>
          <a:xfrm>
            <a:off x="7020000" y="630864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1655-9B00-4D18-9E3B-D1C23104F3E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Диаграмма 2" descr=""/>
          <p:cNvPicPr/>
          <p:nvPr/>
        </p:nvPicPr>
        <p:blipFill>
          <a:blip r:embed="rId1"/>
          <a:stretch/>
        </p:blipFill>
        <p:spPr>
          <a:xfrm>
            <a:off x="272880" y="1722600"/>
            <a:ext cx="8742600" cy="50418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3"/>
          <p:cNvSpPr/>
          <p:nvPr/>
        </p:nvSpPr>
        <p:spPr>
          <a:xfrm>
            <a:off x="250920" y="260280"/>
            <a:ext cx="81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циально ориентированные некоммерческие организации, пользующиеся наибольшим доверием населения, процент отв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Номер слайда 11"/>
          <p:cNvSpPr/>
          <p:nvPr/>
        </p:nvSpPr>
        <p:spPr>
          <a:xfrm>
            <a:off x="7020000" y="630864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051E-CE37-4231-B33C-BE81365FCD6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1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342B-E895-4AD4-8E6A-C2A720B0A71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179280" y="1844640"/>
            <a:ext cx="360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вень доверия граждан Псковской области к некоммерческим организациям в зависимости от уровня осведомленн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Диаграмма 3" descr=""/>
          <p:cNvPicPr/>
          <p:nvPr/>
        </p:nvPicPr>
        <p:blipFill>
          <a:blip r:embed="rId1"/>
          <a:stretch/>
        </p:blipFill>
        <p:spPr>
          <a:xfrm>
            <a:off x="3152880" y="1362240"/>
            <a:ext cx="5933880" cy="27651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6227640" y="4437000"/>
            <a:ext cx="2946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вень доверия граждан Псковской области к некоммерческим организациям в зависимости от формы взаимодействия с НК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Диаграмма 5" descr=""/>
          <p:cNvPicPr/>
          <p:nvPr/>
        </p:nvPicPr>
        <p:blipFill>
          <a:blip r:embed="rId2"/>
          <a:stretch/>
        </p:blipFill>
        <p:spPr>
          <a:xfrm>
            <a:off x="-50760" y="4098960"/>
            <a:ext cx="6402240" cy="27511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"/>
          <p:cNvSpPr/>
          <p:nvPr/>
        </p:nvSpPr>
        <p:spPr>
          <a:xfrm>
            <a:off x="324000" y="47628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акторы доверия граждан к некоммерческим организац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1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86AA-3C2A-4EE0-B402-A8CA70B2B85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3230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250920" y="33336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оля респондентов, занимавшихся в последние три года добровольческой (безвозмездной) работой на благо других людей, процент от числа отв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Диаграмма 6" descr=""/>
          <p:cNvPicPr/>
          <p:nvPr/>
        </p:nvPicPr>
        <p:blipFill>
          <a:blip r:embed="rId1"/>
          <a:stretch/>
        </p:blipFill>
        <p:spPr>
          <a:xfrm>
            <a:off x="279360" y="2154240"/>
            <a:ext cx="831996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1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E858-1B7C-48B8-8CB6-2F007D61807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209520" y="48276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тенциал участия населения в деятельности СО НК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0" y="336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303120" y="1916280"/>
            <a:ext cx="849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51 % населения не испытывают  потребность принимать участие в деятельности СО НКО ни в форме добровольческой, ни в форме благотворительной дея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Диаграмма 9" descr=""/>
          <p:cNvPicPr/>
          <p:nvPr/>
        </p:nvPicPr>
        <p:blipFill>
          <a:blip r:embed="rId1"/>
          <a:stretch/>
        </p:blipFill>
        <p:spPr>
          <a:xfrm>
            <a:off x="320760" y="3444840"/>
            <a:ext cx="8785080" cy="29145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0"/>
          <p:cNvSpPr/>
          <p:nvPr/>
        </p:nvSpPr>
        <p:spPr>
          <a:xfrm>
            <a:off x="284040" y="2878200"/>
            <a:ext cx="8531280" cy="580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зможные формы участия в деятельности некоммерческих организаций, процент от общего числа опрошенны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2"/>
          <p:cNvSpPr/>
          <p:nvPr/>
        </p:nvSpPr>
        <p:spPr>
          <a:xfrm>
            <a:off x="177840" y="48276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интересованность населения в получении информации о деятельности НКО, процент от числа отве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Диаграмма 3" descr=""/>
          <p:cNvPicPr/>
          <p:nvPr/>
        </p:nvPicPr>
        <p:blipFill>
          <a:blip r:embed="rId1"/>
          <a:stretch/>
        </p:blipFill>
        <p:spPr>
          <a:xfrm>
            <a:off x="417600" y="1824120"/>
            <a:ext cx="8165880" cy="4319640"/>
          </a:xfrm>
          <a:prstGeom prst="rect">
            <a:avLst/>
          </a:prstGeom>
          <a:ln w="0">
            <a:noFill/>
          </a:ln>
        </p:spPr>
      </p:pic>
      <p:sp>
        <p:nvSpPr>
          <p:cNvPr id="159" name="Номер слайда 11"/>
          <p:cNvSpPr/>
          <p:nvPr/>
        </p:nvSpPr>
        <p:spPr>
          <a:xfrm>
            <a:off x="7020000" y="630864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65A8-B1D1-4E92-8724-720294DE52B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1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E6D8-3E68-40FC-857A-6D416C0CA81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522360" y="9237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воды социологического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Схема 2" descr=""/>
          <p:cNvPicPr/>
          <p:nvPr/>
        </p:nvPicPr>
        <p:blipFill>
          <a:blip r:embed="rId1"/>
          <a:stretch/>
        </p:blipFill>
        <p:spPr>
          <a:xfrm>
            <a:off x="665280" y="1841400"/>
            <a:ext cx="795492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лан доклад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 Основные параметры социологического исследова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 Методологическая основа социологического исследова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 Результаты социологического исследова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. Выводы социологического исследова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Номер слайда 11"/>
          <p:cNvSpPr/>
          <p:nvPr/>
        </p:nvSpPr>
        <p:spPr>
          <a:xfrm>
            <a:off x="7020000" y="630864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E983-F8A5-4031-8F59-0F8A99AD8E6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9EAF-5820-4D83-B5D4-8B09C922523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42640" y="2852280"/>
            <a:ext cx="800100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0"/>
          </a:bodyPr>
          <a:p>
            <a:pPr marL="93960" indent="-9396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Благодарю за внимание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93960" indent="-9396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93960" indent="-9396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93960" indent="-9396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93960" indent="-9396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93960" indent="-9396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93960" indent="-9396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йлова Анна Николаев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93960" indent="-9396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БОУ В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ковский государственный университе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93960" indent="-9396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цент кафедры государственного и муниципального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93960" indent="-9396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дидат экономических наук, доц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93960" indent="-9396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.: (8112) 79-77-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93960" indent="-9396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93960" indent="-9396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93960" indent="-9396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93960" indent="-93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93960" indent="-93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93960" indent="-93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93960" indent="-939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93960" indent="-939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74400" y="691920"/>
            <a:ext cx="87850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сновные параметры исследова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Схема 6" descr=""/>
          <p:cNvPicPr/>
          <p:nvPr/>
        </p:nvPicPr>
        <p:blipFill>
          <a:blip r:embed="rId1"/>
          <a:stretch/>
        </p:blipFill>
        <p:spPr>
          <a:xfrm>
            <a:off x="158760" y="1407960"/>
            <a:ext cx="8826480" cy="483408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684360" y="198900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ЦЕЛЬ исследовани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3432240" y="1989000"/>
            <a:ext cx="190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КТ исследования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6300720" y="1865160"/>
            <a:ext cx="20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 выборочной совокупност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Номер слайда 11"/>
          <p:cNvSpPr/>
          <p:nvPr/>
        </p:nvSpPr>
        <p:spPr>
          <a:xfrm>
            <a:off x="7020000" y="630864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6AF5-BE6B-4DD6-B156-47C92B95F45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етодологическая основа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4382-C53E-46DD-BB0E-8D9562962C0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Схема 7" descr=""/>
          <p:cNvPicPr/>
          <p:nvPr/>
        </p:nvPicPr>
        <p:blipFill>
          <a:blip r:embed="rId1"/>
          <a:stretch/>
        </p:blipFill>
        <p:spPr>
          <a:xfrm>
            <a:off x="523800" y="1828800"/>
            <a:ext cx="8004240" cy="29876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>
            <a:off x="611280" y="5084640"/>
            <a:ext cx="8137440" cy="1465560"/>
          </a:xfrm>
          <a:prstGeom prst="rect">
            <a:avLst/>
          </a:prstGeom>
          <a:gradFill rotWithShape="0">
            <a:gsLst>
              <a:gs pos="0">
                <a:srgbClr val="e2ebf5"/>
              </a:gs>
              <a:gs pos="100000">
                <a:srgbClr val="f6f9fd"/>
              </a:gs>
            </a:gsLst>
            <a:lin ang="16200000"/>
          </a:gradFill>
          <a:ln w="2844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м выше уровень осведомленности граждан о существовании, целях и направлениях деятельности СО НКО, тем устойчивее позитивный образ НКО в глазах населения, и тем выше степень доверия и готовности граждан участвовать в добровольческой и  благотвори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Номер слайда 11"/>
          <p:cNvSpPr/>
          <p:nvPr/>
        </p:nvSpPr>
        <p:spPr>
          <a:xfrm>
            <a:off x="7020000" y="630864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88AF-EEC7-42FA-B961-3B20949368A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Диаграмма 2" descr=""/>
          <p:cNvPicPr/>
          <p:nvPr/>
        </p:nvPicPr>
        <p:blipFill>
          <a:blip r:embed="rId1"/>
          <a:stretch/>
        </p:blipFill>
        <p:spPr>
          <a:xfrm>
            <a:off x="344520" y="1849320"/>
            <a:ext cx="8454960" cy="42944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250920" y="333360"/>
            <a:ext cx="88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ормированность граждан о существовании некоммерческих организаций, процент от общего числа отве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Номер слайда 11"/>
          <p:cNvSpPr/>
          <p:nvPr/>
        </p:nvSpPr>
        <p:spPr>
          <a:xfrm>
            <a:off x="7020000" y="630864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5E3B-3811-4763-BDCC-3A49A06BF6D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1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EE1C-F6E7-4CBE-8171-FE6524C08C9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27160" y="1628640"/>
            <a:ext cx="8712000" cy="48135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250920" y="333360"/>
            <a:ext cx="88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ормированность граждан о деятельности некоммерческих организаций, процент от общего числа отве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Номер слайда 11"/>
          <p:cNvSpPr/>
          <p:nvPr/>
        </p:nvSpPr>
        <p:spPr>
          <a:xfrm>
            <a:off x="7020000" y="630864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9C19-D8E5-4348-8093-944EBFF4EAC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Диаграмма 2" descr=""/>
          <p:cNvPicPr/>
          <p:nvPr/>
        </p:nvPicPr>
        <p:blipFill>
          <a:blip r:embed="rId1"/>
          <a:stretch/>
        </p:blipFill>
        <p:spPr>
          <a:xfrm>
            <a:off x="488880" y="1865160"/>
            <a:ext cx="8382240" cy="42577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209520" y="442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ормированность населения о конкретных мероприятиях, реализованных некоммерческими организациями, процент от общего числа отве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Номер слайда 11"/>
          <p:cNvSpPr/>
          <p:nvPr/>
        </p:nvSpPr>
        <p:spPr>
          <a:xfrm>
            <a:off x="7020000" y="630864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9F3A-F0CF-4F6E-8291-7CDAAF68FD8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3"/>
          <p:cNvSpPr/>
          <p:nvPr/>
        </p:nvSpPr>
        <p:spPr>
          <a:xfrm>
            <a:off x="179280" y="47628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точники информации о деятельности некоммерческих организаций, процент отве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Диаграмма 4" descr=""/>
          <p:cNvPicPr/>
          <p:nvPr/>
        </p:nvPicPr>
        <p:blipFill>
          <a:blip r:embed="rId1"/>
          <a:stretch/>
        </p:blipFill>
        <p:spPr>
          <a:xfrm>
            <a:off x="272880" y="1722600"/>
            <a:ext cx="8670960" cy="4421160"/>
          </a:xfrm>
          <a:prstGeom prst="rect">
            <a:avLst/>
          </a:prstGeom>
          <a:ln w="0">
            <a:noFill/>
          </a:ln>
        </p:spPr>
      </p:pic>
      <p:sp>
        <p:nvSpPr>
          <p:cNvPr id="120" name="Номер слайда 11"/>
          <p:cNvSpPr/>
          <p:nvPr/>
        </p:nvSpPr>
        <p:spPr>
          <a:xfrm>
            <a:off x="7020000" y="630864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643F-91C6-4598-8995-B2A3BF6BF45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1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8B9A-D051-496B-9C83-C39E99B56E0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108000" y="19080"/>
            <a:ext cx="885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прос «Как Вы считаете, если говорить в целом, какую роль сейчас играют некоммерческие организации и гражданские инициативы в жизни нашей страны и в Псковской области, в частности?», процент от общего числа отв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Диаграмма 3" descr=""/>
          <p:cNvPicPr/>
          <p:nvPr/>
        </p:nvPicPr>
        <p:blipFill>
          <a:blip r:embed="rId1"/>
          <a:stretch/>
        </p:blipFill>
        <p:spPr>
          <a:xfrm>
            <a:off x="417600" y="1722600"/>
            <a:ext cx="823752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8T06:56:21Z</dcterms:created>
  <dc:creator>MiniAsus</dc:creator>
  <dc:description/>
  <dc:language>en-US</dc:language>
  <cp:lastModifiedBy>user</cp:lastModifiedBy>
  <cp:lastPrinted>2016-12-18T07:43:56Z</cp:lastPrinted>
  <dcterms:modified xsi:type="dcterms:W3CDTF">2016-12-21T07:39:40Z</dcterms:modified>
  <cp:revision>157</cp:revision>
  <dc:subject/>
  <dc:title>Слайд 1</dc:title>
</cp:coreProperties>
</file>